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D40F-B016-42C6-AE64-AE81422D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074E-CE45-4557-8475-086A7E5C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9BFD-FB52-4936-99F3-123C0E670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DE56-83FE-4806-8E47-DCF6B93F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B138-B3F7-4DE4-915E-BCB1BA13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9DBD-8F81-4FB8-84ED-F801D701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BA4B-971E-4A4F-B201-5AB6BF44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1BB8-2CC6-48E7-85D7-64E5CF59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1E57-F1CC-43B5-A5D2-58AA0C77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01D7-6928-4C1B-A13A-E43DEED7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37F3-9879-4420-A285-3AD767FD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0CC4-2248-4685-B379-DF94B6F0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085C-F241-4A4D-994C-28F2B454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4991-B007-4EE0-B492-928F2B60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B51E-0375-419B-AFAC-FF4B9316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4A95-D0A9-4EF6-8845-E9FC07B2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66E3-6348-467A-BABA-353BD05E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436B-E0F6-41C2-9B8E-1D94CA95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A61E-8916-4E5D-9CDC-44F6BF47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D0F3-30DE-4525-A0D5-43D4CC56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54E9-5EF1-4500-966A-26474C2E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D687-3C13-4D45-BB22-4208E7AF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9170-F5A0-446D-A658-F18184A9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0F09-6E5B-4FAF-BF5E-5F3AAE02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C17F-F5DB-4AAB-A8DF-00201CE455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F6D4-DC47-4F4E-B1B1-0FD3A7FB79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Tropical Islands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ord of the F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Geography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mate and Weather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Animals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Danger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Shipwreck story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What do you think it would be like to have to survive here?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3:42:32Z</dcterms:created>
  <dc:creator>DCSUSER</dc:creator>
  <dc:description/>
  <dc:language>en-US</dc:language>
  <cp:lastModifiedBy>DCSUSER</cp:lastModifiedBy>
  <dcterms:modified xsi:type="dcterms:W3CDTF">2011-05-09T13:43:25Z</dcterms:modified>
  <cp:revision>1</cp:revision>
  <dc:subject/>
  <dc:title>Tropical Islands</dc:title>
</cp:coreProperties>
</file>